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3843-AB35-4BE2-94AB-6BCDB894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A529-FB5C-49D8-A415-B7BADF2F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14DE-FA76-49BB-9C4D-05FF5497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97F2-C693-4FA7-AE98-A723219B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E4E4-CF34-4790-8E73-D5370206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AE28-9D7F-46E8-88A8-CDB25525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5F69-6585-4B87-A728-9E2F8E52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986C-2359-4F4C-9D09-4C7C1A29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D3C0-D281-48E3-A511-9C75629E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9B93-0CE4-4920-8160-3B555033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9F6D-96F8-4DEC-A81C-7B81BE83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43D0-0550-4920-8B5B-A90673A9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DA4E-5762-4B22-BD50-FDF6BAC69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utsch Kapital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sund Leb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Matias Rei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ne Gesu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joggen jeden morgen aber ich finde es langweil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esse viel obst und gemuse denn, sie schmects g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t keine alkahol getrun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077320" y="2133720"/>
            <a:ext cx="914400" cy="855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666880" y="4419720"/>
            <a:ext cx="1981440" cy="213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48120" y="4495680"/>
            <a:ext cx="1496880" cy="180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971800" y="4724280"/>
            <a:ext cx="144792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238880" y="3200400"/>
            <a:ext cx="115272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lfgangs Ges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finde es nicht gut das du rauc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ünters Ges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 verbiden die sonne n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247176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darf viel rad Fahr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4197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habe kiene 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Schokolad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en, weil sie fett mac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00400" y="2286000"/>
            <a:ext cx="247320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8:30:06Z</dcterms:created>
  <dc:creator>CUSD220</dc:creator>
  <dc:description/>
  <dc:language>en-US</dc:language>
  <cp:lastModifiedBy>CUSD220</cp:lastModifiedBy>
  <dcterms:modified xsi:type="dcterms:W3CDTF">2012-02-24T18:21:30Z</dcterms:modified>
  <cp:revision>3</cp:revision>
  <dc:subject/>
  <dc:title>Deutsch Kapital 4 Gesund Leben</dc:title>
</cp:coreProperties>
</file>